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7495-B0C9-43C0-BDCE-59FBFFFF9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0622-6A4D-45CE-8C15-C65FDF7D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47681-45BB-4FA5-95CA-C747CE24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490B6-D9E4-48D0-A3D0-3EB51241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B2AE6-202F-4B42-A50A-B1424BE8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73BA8-5D81-4CD1-BD80-0160F94D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D7C56-06DE-4539-A95A-A379BF39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0BB12E-FF4F-4DF1-A88A-C3FF42D3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38A7B-7DC1-4F0E-943F-39CBF159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9AFA1-BA77-4F7E-88FC-BA6B7012B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8082C-F12E-4D6E-8D87-1BBC1ADF0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3AFA-99AF-4077-AC3E-2EE42FB1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35AE-701D-4C3C-BD4A-DEA8E22E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3911-08BA-4B71-AC62-D434FF6F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5944-A8A5-4701-B848-245E7E69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C1FB-3C7A-496C-99B4-38EB1919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314F-0BD1-44CE-A989-007073AD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DEF3-49E8-4368-9C2E-495B4024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666C-0D9B-4DD9-82D1-661E516F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2D1D-5214-4C60-836C-508E1F16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568F-DC12-476D-92BD-192A35A9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F913-CAE4-4B2D-9DAB-8838587C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D925-31A8-4318-8243-3576D20F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6739-2FD2-4D31-A354-D7147136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62E6-15CF-4338-89CE-A27E6EFB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5C77-A70E-42B1-AFC2-A08FBC47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63F4A-2ADD-4CB1-B99F-5C4BB8A0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0E7E8-9D07-4017-8316-5E8A19CE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AB96F-23BA-41E6-A465-530CE840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82228-18CC-4C96-84D8-E6CB7FAF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6A8F7-8417-47C4-91DE-D15A8CC8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14A7-EB23-4959-9280-078B5A3A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7E66B-A33C-4644-A1AE-FB634A69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9CCD1-FD22-4E4C-9285-7DC41DEF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C2DFE-503C-454E-8076-49188BC0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BD0F1-952D-4165-BC0D-3E8B4F4A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2DBDA-761D-4815-835C-B045CE77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ACFC2-6932-4650-923F-CE4891C3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78659-96FE-49CE-A782-A1CDCBBDD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D1FC7-47BB-4D4E-8EA3-4D7B31660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4D9A8-B68B-4F77-A806-8EAD571B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4BF12-096B-44D3-8056-A3660E61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27E1-CBC3-4E56-A0E2-DC09204B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76A94-C940-4CB4-89B6-53E24A5C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091DF-32BD-47FC-B4BF-4DBDD294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543DF-E787-46D8-95F1-5A20716F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61C42-2466-4EE0-9877-62168236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0BD10-EBCA-497A-8246-26D89B62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3064B-044A-4D87-9BCC-BD6416FD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E1879-D2CD-4577-BC47-240C4FD9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E0679-32CA-43EE-8F34-ACD2852E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0805E-1739-42A3-A04C-FF187BE8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8C6CC-C6F2-4031-BC7A-E855072AC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A304-E635-43AF-820B-AF08B0E5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6036C-5763-4E2A-836D-4250D2D0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ADF5D-2734-4654-89F9-B9EC7EEE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08AE7-A8DE-47EC-A933-395F4CDF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C5A1A-A47F-4A35-B71C-095BA529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C0A76-4EB5-4B15-8073-841D4901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387D8-38E9-49E4-ACB9-B0863514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2E654-2AD9-4964-AB10-DDCCF068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35009-9254-4822-9F3C-86691AA6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D8CDF-A28F-4DA8-8857-305CD75B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33B7E-5E3F-47A5-94CF-A40011BC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DA9C-8650-42B8-9A3D-3E9827F9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44DBE-6D02-443A-9804-49FE8067C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16B94-48DD-4E58-955D-C1C5E316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33A21-6E75-47C6-8AC3-383631BA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AF1CB-DF8C-4A76-8BE9-77918B23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61FD3-6FE8-422E-AF56-D270EFA2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FD576-4602-48CD-B1B6-A656BAEF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D3D6E-3E1D-4F8B-8CB2-E376DAEB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84CA3-DF3D-41DB-A058-27D85C7B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20EFA-128B-4D13-A09F-70E6FEB2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AEF3C-E355-471A-94ED-4889E1FB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FB64-3C3A-4A2F-B53F-01B1E7DA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57E25-98FF-4456-BF44-F3BA2557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24643-1E02-4F5B-8DD5-9ADE3856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CF324-3A22-40E8-B8F9-ED6A1427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A5816-54B0-4FBE-B4B8-113EAE48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D5B64-BBD3-4B91-915E-339F15C3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FFFEC-FC33-48B3-ACA1-8DC55717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00D36-897F-45E7-9E49-B6CC9BE1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DF76A-85C4-4267-A2BA-C996AC8F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E690C-1E4A-49F7-A8D3-D115CE7C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FF805-3E4E-457B-BB30-8BBB3A20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29AB-67AD-4F19-89CA-D69EA979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69FEB-0285-4AE0-AB40-DDF2CCF1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D8050-FA92-4CF8-9857-83A19739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0C13A-BE9B-45F7-A761-C1C672E9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13AB8-8FA4-4C70-BD13-D3DE66E01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A69D4-8688-4D22-BC7B-DC7DA6DA7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84F3E-7C55-4C00-BE69-EEB1AA6A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6F183-9B54-43C9-B8D9-E120EAA2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15CF3-F5DB-452C-B6C5-3AAB1B82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3251F-2CC0-4AB0-84F5-4584E33D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5EC0E-8760-4FC4-870D-4BB5F0E9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0AE2-2415-427B-A131-4E53FB65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97672-1F27-4A9F-9A70-2BC78E11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F3BF0-AD04-4E54-BFF2-E3C47868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B05DE-CE81-4CCC-BF62-860EC0C9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5A294-B43C-4F51-8901-3DD774EC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91B51-D5D9-466F-87B6-064F8047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F6F7D-DEF2-411E-B769-D73BA8EEC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10345-A76D-4A6E-84A7-32F67DDE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98304-6DDB-4C7B-A64F-22BF865F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3A359-403B-4A9E-BF89-663BDB04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96AC6-0511-4D2F-A289-1C789FC8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DE02-51FC-4DA4-ADD7-10CD9AE20A0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3EC8-C60A-49FC-8C43-4B018F974B1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7E3F-4ECF-44E6-B114-33768EEABCF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9955-2446-4150-B061-2AB5D4C6544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5B84-9A93-40E2-8708-D9FDEA6BCF0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5756-5FEB-446A-83D9-E373E745A2B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45F8-1849-47D1-AB8B-F6DB25C32B7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10E4-8D57-409A-9DCB-992496CBD8C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8B3E-9006-4273-AE20-BA635A3B6EC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3534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43329"/>
                </a:solidFill>
                <a:latin typeface="Franklin Gothic Book"/>
              </a:rPr>
              <a:t>ЕДИНАЯ СИСТЕМА ИДЕНТИФИКАЦИИ И АУТЕНТИФИКАЦИИ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9813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лючевая функция ЕСИА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едоставление пользователю единой учетной записи, которая дает возможность пользователю получить доступ к множеству значимых государственных информационных систем с использованием единой учетной запис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егистрация в ЕСИА</a:t>
            </a:r>
            <a:r>
              <a:rPr b="0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, т.е. наличие единой учетной записи, позволяет после первого входа в ту или иную государственную информационную систему обращаться к любым информационным системам, использующим ЕСИА, при этом не будет требоваться новый ввод логина и пароля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ДГОТОВКА К РАБОТЕ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аг 1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ля начала использования ЕСИА необходимо запустить на компьютере совместимый браузер и ввести в адресной строке следующий адрес: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ttps://esia.gosuslugi.ru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79912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3760"/>
            <a:ext cx="86868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аг 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Если пользователь не авторизован, он будет переадресован на страницу входа в ЕСИ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аг 3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ля входа необходимо ввести один электронную почту в поле логин, которые указаны в профиле пользователя ЕСИА и подтверждены пароль доступа и нажать кнопку «Войти»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7" name="Picture 4" descr=""/>
          <p:cNvPicPr/>
          <p:nvPr/>
        </p:nvPicPr>
        <p:blipFill>
          <a:blip r:embed="rId2"/>
          <a:stretch/>
        </p:blipFill>
        <p:spPr>
          <a:xfrm>
            <a:off x="1273320" y="3379680"/>
            <a:ext cx="2722320" cy="31705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"/>
          <p:cNvPicPr/>
          <p:nvPr/>
        </p:nvPicPr>
        <p:blipFill>
          <a:blip r:embed="rId3"/>
          <a:stretch/>
        </p:blipFill>
        <p:spPr>
          <a:xfrm>
            <a:off x="4643280" y="3379680"/>
            <a:ext cx="261468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аг 4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Если пользователь не зарегистрирован в ЕСИА, то следует нажать на ссылку </a:t>
            </a:r>
            <a:r>
              <a:rPr b="1" i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Зарегистрируйтесь для полного доступа к сервисам»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411" name="Группа 4"/>
          <p:cNvGrpSpPr/>
          <p:nvPr/>
        </p:nvGrpSpPr>
        <p:grpSpPr>
          <a:xfrm>
            <a:off x="2587680" y="2349360"/>
            <a:ext cx="3754440" cy="3894120"/>
            <a:chOff x="2587680" y="2349360"/>
            <a:chExt cx="3754440" cy="3894120"/>
          </a:xfrm>
        </p:grpSpPr>
        <p:pic>
          <p:nvPicPr>
            <p:cNvPr id="412" name="Picture 2" descr=""/>
            <p:cNvPicPr/>
            <p:nvPr/>
          </p:nvPicPr>
          <p:blipFill>
            <a:blip r:embed="rId2"/>
            <a:stretch/>
          </p:blipFill>
          <p:spPr>
            <a:xfrm>
              <a:off x="2695320" y="2349360"/>
              <a:ext cx="3646800" cy="36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Овал 3"/>
            <p:cNvSpPr/>
            <p:nvPr/>
          </p:nvSpPr>
          <p:spPr>
            <a:xfrm>
              <a:off x="2587680" y="5445360"/>
              <a:ext cx="3743640" cy="798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268200" y="182520"/>
            <a:ext cx="8729640" cy="10605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196640"/>
            <a:ext cx="8686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ля перехода на страницу регистрации ЕСИА необходимо нажать на кнопку </a:t>
            </a: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Личный кабинет»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информационной системе ЕПГУ, интегрированной с ЕСИА, либо воспользоваться прямой ссылкой: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ttps://esia.gosuslugi.ru/registration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2"/>
          <a:stretch/>
        </p:blipFill>
        <p:spPr>
          <a:xfrm>
            <a:off x="395280" y="3429000"/>
            <a:ext cx="2576520" cy="31687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"/>
          <p:cNvPicPr/>
          <p:nvPr/>
        </p:nvPicPr>
        <p:blipFill>
          <a:blip r:embed="rId3"/>
          <a:stretch/>
        </p:blipFill>
        <p:spPr>
          <a:xfrm>
            <a:off x="971640" y="2924280"/>
            <a:ext cx="6116400" cy="380880"/>
          </a:xfrm>
          <a:prstGeom prst="rect">
            <a:avLst/>
          </a:prstGeom>
          <a:ln w="0">
            <a:noFill/>
          </a:ln>
        </p:spPr>
      </p:pic>
      <p:sp>
        <p:nvSpPr>
          <p:cNvPr id="418" name="Овал 3"/>
          <p:cNvSpPr/>
          <p:nvPr/>
        </p:nvSpPr>
        <p:spPr>
          <a:xfrm>
            <a:off x="5867280" y="2903400"/>
            <a:ext cx="1513080" cy="401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9" name="Прямоугольник 4"/>
          <p:cNvSpPr/>
          <p:nvPr/>
        </p:nvSpPr>
        <p:spPr>
          <a:xfrm>
            <a:off x="5219640" y="3645000"/>
            <a:ext cx="37418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бразится страница регистрации ЕСИА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ираем способ регистрации по электронной почте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0" name="Picture 4" descr=""/>
          <p:cNvPicPr/>
          <p:nvPr/>
        </p:nvPicPr>
        <p:blipFill>
          <a:blip r:embed="rId4"/>
          <a:stretch/>
        </p:blipFill>
        <p:spPr>
          <a:xfrm>
            <a:off x="2124000" y="3475080"/>
            <a:ext cx="245592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244440" y="182520"/>
            <a:ext cx="8728200" cy="10605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052640"/>
            <a:ext cx="86868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 указанный адрес электронной почты будет отправлено письмо, содержащее ссылку для создания упрощенной учетной запис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алее перейдите по ссылке указанной в письме и нажмите кнопку «Ввод». Время действия данной ссылки составляет 3 дня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ведите пароль два раз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3" name="Picture 3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4599000" cy="2930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"/>
          <p:cNvPicPr/>
          <p:nvPr/>
        </p:nvPicPr>
        <p:blipFill>
          <a:blip r:embed="rId3"/>
          <a:stretch/>
        </p:blipFill>
        <p:spPr>
          <a:xfrm>
            <a:off x="4572000" y="3357720"/>
            <a:ext cx="3051000" cy="33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3T10:09:39Z</dcterms:created>
  <dc:creator>kiktenko</dc:creator>
  <dc:description/>
  <dc:language>en-US</dc:language>
  <cp:lastModifiedBy>школа</cp:lastModifiedBy>
  <dcterms:modified xsi:type="dcterms:W3CDTF">2017-02-07T05:28:14Z</dcterms:modified>
  <cp:revision>8</cp:revision>
  <dc:subject/>
  <dc:title>Презентация PowerPoint</dc:title>
</cp:coreProperties>
</file>